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79640" y="981000"/>
            <a:ext cx="5184720" cy="2334240"/>
          </a:xfrm>
          <a:prstGeom prst="rect">
            <a:avLst/>
          </a:prstGeom>
          <a:noFill/>
          <a:ln w="0">
            <a:noFill/>
          </a:ln>
        </p:spPr>
        <p:txBody>
          <a:bodyPr lIns="0" rIns="0" tIns="0" bIns="0" anchor="ctr">
            <a:noAutofit/>
          </a:bodyPr>
          <a:p>
            <a:pPr algn="ct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379440">
              <a:spcBef>
                <a:spcPts val="601"/>
              </a:spcBef>
              <a:spcAft>
                <a:spcPts val="1199"/>
              </a:spcAft>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51000" indent="-328680">
              <a:spcBef>
                <a:spcPts val="601"/>
              </a:spcBef>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89200" indent="-358920">
              <a:spcBef>
                <a:spcPts val="601"/>
              </a:spcBef>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325600" indent="-357120">
              <a:spcBef>
                <a:spcPts val="601"/>
              </a:spcBef>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325600" indent="-357120">
              <a:spcBef>
                <a:spcPts val="601"/>
              </a:spcBef>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325600" indent="-357120">
              <a:spcBef>
                <a:spcPts val="601"/>
              </a:spcBef>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ftr" idx="1"/>
          </p:nvPr>
        </p:nvSpPr>
        <p:spPr>
          <a:xfrm>
            <a:off x="0" y="6453360"/>
            <a:ext cx="9144000" cy="404640"/>
          </a:xfrm>
          <a:prstGeom prst="rect">
            <a:avLst/>
          </a:prstGeom>
          <a:solidFill>
            <a:srgbClr val="990033"/>
          </a:solidFill>
          <a:ln w="0">
            <a:noFill/>
          </a:ln>
        </p:spPr>
        <p:txBody>
          <a:bodyPr lIns="216000" rIns="144000" tIns="126000" bIns="0" anchor="t">
            <a:noAutofit/>
          </a:bodyPr>
          <a:lstStyle>
            <a:lvl1pPr indent="0">
              <a:buNone/>
              <a:tabLst>
                <a:tab algn="l" pos="0"/>
                <a:tab algn="l" pos="8520120"/>
              </a:tabLst>
              <a:defRPr b="1" lang="fr-FR" sz="1200" spc="-1" strike="noStrike">
                <a:solidFill>
                  <a:srgbClr val="ffffff"/>
                </a:solidFill>
                <a:latin typeface="Arial"/>
              </a:defRPr>
            </a:lvl1pPr>
          </a:lstStyle>
          <a:p>
            <a:pPr indent="0">
              <a:buNone/>
              <a:tabLst>
                <a:tab algn="l" pos="0"/>
                <a:tab algn="l" pos="8520120"/>
              </a:tabLst>
            </a:pPr>
            <a:r>
              <a:rPr b="1" lang="fr-FR" sz="1200" spc="-1" strike="noStrike">
                <a:solidFill>
                  <a:srgbClr val="ffffff"/>
                </a:solidFill>
                <a:latin typeface="Arial"/>
              </a:rPr>
              <a:t>Shanghai, P.R. China, 23 October 2007</a:t>
            </a:r>
            <a:r>
              <a:rPr b="1" lang="fr-FR" sz="1200" spc="-1" strike="noStrike">
                <a:solidFill>
                  <a:srgbClr val="ffffff"/>
                </a:solidFill>
                <a:latin typeface="Arial"/>
              </a:rPr>
              <a:t>	</a:t>
            </a:r>
            <a:fld id="{EA0DA485-C32B-4822-B6DE-4AF8A9E9E38D}"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3" name=""/>
          <p:cNvSpPr/>
          <p:nvPr/>
        </p:nvSpPr>
        <p:spPr>
          <a:xfrm>
            <a:off x="0" y="0"/>
            <a:ext cx="9144000" cy="9810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 1 Seminar</a:t>
            </a:r>
            <a:endParaRPr b="0" lang="en-US" sz="2400" spc="-1" strike="noStrike">
              <a:solidFill>
                <a:srgbClr val="000000"/>
              </a:solidFill>
              <a:latin typeface="Arial"/>
            </a:endParaRPr>
          </a:p>
        </p:txBody>
      </p:sp>
      <p:pic>
        <p:nvPicPr>
          <p:cNvPr id="4" name="" descr=""/>
          <p:cNvPicPr/>
          <p:nvPr/>
        </p:nvPicPr>
        <p:blipFill>
          <a:blip r:embed="rId2"/>
          <a:stretch/>
        </p:blipFill>
        <p:spPr>
          <a:xfrm>
            <a:off x="179280" y="123840"/>
            <a:ext cx="863640" cy="747720"/>
          </a:xfrm>
          <a:prstGeom prst="rect">
            <a:avLst/>
          </a:prstGeom>
          <a:ln w="0">
            <a:noFill/>
          </a:ln>
        </p:spPr>
      </p:pic>
      <p:pic>
        <p:nvPicPr>
          <p:cNvPr id="5" name="" descr=""/>
          <p:cNvPicPr/>
          <p:nvPr/>
        </p:nvPicPr>
        <p:blipFill>
          <a:blip r:embed="rId3"/>
          <a:stretch/>
        </p:blipFill>
        <p:spPr>
          <a:xfrm>
            <a:off x="7164360" y="0"/>
            <a:ext cx="1979640" cy="1484280"/>
          </a:xfrm>
          <a:prstGeom prst="rect">
            <a:avLst/>
          </a:prstGeom>
          <a:ln w="0">
            <a:noFill/>
          </a:ln>
        </p:spPr>
      </p:pic>
      <p:sp>
        <p:nvSpPr>
          <p:cNvPr id="6" name=""/>
          <p:cNvSpPr/>
          <p:nvPr/>
        </p:nvSpPr>
        <p:spPr>
          <a:xfrm>
            <a:off x="0" y="981000"/>
            <a:ext cx="1979640" cy="503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spcBef>
                <a:spcPts val="7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901"/>
              </a:spcBef>
              <a:spcAft>
                <a:spcPts val="4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sentation of D 1, how to use it</a:t>
            </a:r>
            <a:endParaRPr b="0" lang="en-US" sz="3600" spc="-1" strike="noStrike">
              <a:solidFill>
                <a:srgbClr val="000000"/>
              </a:solidFill>
              <a:latin typeface="Arial"/>
            </a:endParaRPr>
          </a:p>
          <a:p>
            <a:pPr indent="0" algn="ctr">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Jean-François Maga</a:t>
            </a:r>
            <a:r>
              <a:rPr b="0" i="1" lang="en-US" sz="2400" spc="-1" strike="noStrike">
                <a:solidFill>
                  <a:srgbClr val="000000"/>
                </a:solidFill>
                <a:latin typeface="Arial"/>
                <a:ea typeface="Arial"/>
              </a:rPr>
              <a:t>ñ</a:t>
            </a:r>
            <a:r>
              <a:rPr b="0" i="1" lang="en-US" sz="2400" spc="-1" strike="noStrike">
                <a:solidFill>
                  <a:srgbClr val="000000"/>
                </a:solidFill>
                <a:latin typeface="Arial"/>
              </a:rPr>
              <a:t>a, BIML Direc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ntents of the Law</a:t>
            </a:r>
            <a:endParaRPr b="1" lang="en-US" sz="2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 the 60's, the metre was defined as a multiple of the wavelength in the vacuum,of the radiation emitted between two levels of an atom.</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ow the metre is defined as a distance runned by light in the vacuum in a given fraction of a second.</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hall we ask the Parliament to discuss and to vote th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ntents of the Law</a:t>
            </a:r>
            <a:endParaRPr b="1" lang="en-US" sz="2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ubmitting scientific or technical details to the Parliament is the best way to bore them.</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nd in any case, you know what you send to the Parliament, you never know what will come out.</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ill they vote or amend the laws of Physics ? This occured in the 19th Century.</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ntents of the Law</a:t>
            </a:r>
            <a:endParaRPr b="1" lang="en-US" sz="2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law should set general principles, obligations, general criteria of exemptions, it should define the powers, responsibilities, penalties, and the mechanisms for funding,</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law should delegate technical details to administrative regulations (government acts, ministerial acts, technical decisions of appropriate bod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xample : Legal Units</a:t>
            </a:r>
            <a:endParaRPr b="1" lang="en-US" sz="2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law should define Legal Units as</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SI as defined by the Metre Convention bodies (Treaties have a higher statute than laws), and if necessary,</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ustomary Units, subject to certain criteria concerning their necessity.</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law should then charge an authority to keep all this updated and to publish all necessary deta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Other example: Traceability</a:t>
            </a:r>
            <a:endParaRPr b="1" lang="en-US" sz="2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law should say that :</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ceability should be traceability to SI, </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rough realizations of the SI Units, in the country or in other countries,</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acceptable routes for traceability to realizations of the SI Units are defined by a decision of a designated authority.</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law should also say that in all existing laws and regulations, any requirement for traceability to national standards is replaced by these provi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eed to consult lawyers</a:t>
            </a:r>
            <a:endParaRPr b="1" lang="en-US" sz="2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Law must comply with the Constitution.</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is needs a careful analysis by appropriate specialists of the Constitution.</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 most countries a special jurisdiction is competent to examine such constitutional problems. This jurisdiction should be consulted and should be very active in the preparation of the la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nstitution - examples</a:t>
            </a:r>
            <a:endParaRPr b="1" lang="en-US" sz="2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hen revising the French Government act on legal metrology, it was envisaged to say that:</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eighing instruments of Class IIII used in trade should be limited to products of unit price under a certain limit. Above this limit, Class III should be used.</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cording to the Constitution, this would have needed a law, a Government act could authorize or forbid Class IIII, but not limit its use. If sand can be sold with Class IIII instruments, gold can also be sold with Class IIII instruments...</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ortunately no one would buy gold under these cond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nstitution - examples</a:t>
            </a:r>
            <a:endParaRPr b="1" lang="en-US" sz="2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etrology or weights and measures are sometimes mentioned in the Constitution:</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y may be a prerogative of States and not fall under Federal law</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 this case the law should only address what the Constitution allows it to addr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nicity of metrology</a:t>
            </a:r>
            <a:endParaRPr b="1" lang="en-US" sz="2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etrology is a whole.</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 very close cooperation between scientific metrology and legal metrology is necessary.</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 single institute is advisable, providing that both branches of metrology are treated with equity. </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oth missions and their specialists should be paid the same attention.</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f two institutes exist, they should have tight li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tional issues</a:t>
            </a:r>
            <a:endParaRPr b="1" lang="en-US" sz="2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etrology is globalizing, at Regional and international level.</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WTO TBT and SPS Agreements call their signatories to cooperate in the different international standard-setting activities and in the different international acceptance and recognition systems.</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law must formally authorize the authorities and institutes to run such cooperations and to participate in these international acceptance and recognition sche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cope of the intended law</a:t>
            </a:r>
            <a:endParaRPr b="1" lang="en-US" sz="2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epends on:</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awareness and the commitment of the Minister who presents this law,</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His influence in the Government,</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cooperation with other concerned Departments.</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eeds a </a:t>
            </a:r>
            <a:r>
              <a:rPr b="1" lang="fr-FR" sz="2400" spc="-1" strike="noStrike">
                <a:solidFill>
                  <a:srgbClr val="000000"/>
                </a:solidFill>
                <a:latin typeface="Arial"/>
              </a:rPr>
              <a:t>good preliminary concertation</a:t>
            </a:r>
            <a:r>
              <a:rPr b="0" lang="fr-FR" sz="2400" spc="-1" strike="noStrike">
                <a:solidFill>
                  <a:srgbClr val="000000"/>
                </a:solidFill>
                <a:latin typeface="Arial"/>
              </a:rPr>
              <a:t> with all concerned Depar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se of the private sector</a:t>
            </a:r>
            <a:endParaRPr b="1" lang="en-US" sz="2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 most countries, in Legal Metrology, </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indings about infringements are the responsibility of State officers,</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ciding penalties is the responsibility of judicial authorities (under a certain level it may be administrative penalties).</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is cannot be privatiz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se of the private sector</a:t>
            </a:r>
            <a:endParaRPr b="1" lang="en-US" sz="2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ird part private bodies may be authorized to assess and declare the conformity of measuring instruments or of measurements.</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ir responsibility must be very clear,</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ir competence and impartiality must be guaranteed,</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y must be liable,</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y must be controlled and supervised,</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remaining responsibility of the owner and user of the instrument must be cl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se of the private sector</a:t>
            </a:r>
            <a:endParaRPr b="1" lang="en-US" sz="2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econd party conformity assessment may also be considered (manufacturer's declaration of conformity).</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ditions must be carefully studied,</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ppropriate supervision and surveillance must be exe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se of the private sector</a:t>
            </a:r>
            <a:endParaRPr b="1" lang="en-US" sz="2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s a conclusion, in all cases, the national legal metrology authority must keep a good command and control of the whole legal metrology system and of its efficiency, with regards to the objectives of legal metrology.</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authorities in charge of metrology must be able to report on the results of their policy and of their action, before the Government and before the Parlia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t the difference of the old version of D 1, the present document is not anymore a "Model Law".</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 1 gives a number of possible provisions which have to be discussed with all stakeholders and with legal advisors.</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n essential phase is the concertation that should be done before writing a draft law. During this concertation, two phases should be carried out:</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planations about metrology and about the need for a better metrology infrastructure,</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iscussion about the options to sel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OIML and the BIML will do all efforts to bring support to countries who start such a national concertation</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egional Legal Metrology Organizations will probably also be ready to bring such support.</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 number of work projects are being envisaged in the OIML to elaborate publications addressing specific issues such as which consistent set of conformity assessment procedures for legal metrology may be considered by cou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spcBef>
                <a:spcPts val="1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1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Thank you for your attention.</a:t>
            </a:r>
            <a:endParaRPr b="0" lang="en-US" sz="4000" spc="-1" strike="noStrike">
              <a:solidFill>
                <a:srgbClr val="000000"/>
              </a:solidFill>
              <a:latin typeface="Arial"/>
            </a:endParaRPr>
          </a:p>
          <a:p>
            <a:pPr indent="0">
              <a:spcBef>
                <a:spcPts val="1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cope of the intended law</a:t>
            </a:r>
            <a:endParaRPr b="1" lang="en-US" sz="2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wider, the best</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ut may be limited, for example to Weights and Measures Control, </a:t>
            </a:r>
            <a:endParaRPr b="0" lang="en-US" sz="2400" spc="-1" strike="noStrike">
              <a:solidFill>
                <a:srgbClr val="000000"/>
              </a:solidFill>
              <a:latin typeface="Arial"/>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nd</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eights and Measures control may cover only a number of appli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cope of the intended law</a:t>
            </a:r>
            <a:endParaRPr b="1" lang="en-US" sz="2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However it must be reminded that a </a:t>
            </a:r>
            <a:r>
              <a:rPr b="1" lang="fr-FR" sz="2400" spc="-1" strike="noStrike">
                <a:solidFill>
                  <a:srgbClr val="000000"/>
                </a:solidFill>
                <a:latin typeface="Arial"/>
              </a:rPr>
              <a:t>consistent</a:t>
            </a:r>
            <a:r>
              <a:rPr b="0" lang="fr-FR" sz="2400" spc="-1" strike="noStrike">
                <a:solidFill>
                  <a:srgbClr val="000000"/>
                </a:solidFill>
                <a:latin typeface="Arial"/>
              </a:rPr>
              <a:t> system should include </a:t>
            </a:r>
            <a:r>
              <a:rPr b="1" lang="fr-FR" sz="2400" spc="-1" strike="noStrike">
                <a:solidFill>
                  <a:srgbClr val="000000"/>
                </a:solidFill>
                <a:latin typeface="Arial"/>
              </a:rPr>
              <a:t>all components</a:t>
            </a:r>
            <a:r>
              <a:rPr b="0" lang="fr-FR" sz="2400" spc="-1" strike="noStrike">
                <a:solidFill>
                  <a:srgbClr val="000000"/>
                </a:solidFill>
                <a:latin typeface="Arial"/>
              </a:rPr>
              <a:t> of metrology:</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finition of Units,</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ational Metrology Institute, national references and research,</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ceability, transfer to users,</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ole of accreditation,</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egulations on measurements and on measuring instru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eliminary concertation</a:t>
            </a:r>
            <a:endParaRPr b="1" lang="en-US" sz="2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ll Departments interested in metrology and in measurements should be consulted and should participate in the preparation of the law:</a:t>
            </a:r>
            <a:endParaRPr b="0" lang="en-US" sz="24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search and Technology,</a:t>
            </a:r>
            <a:endParaRPr b="0" lang="en-US" sz="20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mestic Trade,</a:t>
            </a:r>
            <a:endParaRPr b="0" lang="en-US" sz="20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xternal trade,</a:t>
            </a:r>
            <a:endParaRPr b="0" lang="en-US" sz="20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nsumer protection,</a:t>
            </a:r>
            <a:endParaRPr b="0" lang="en-US" sz="20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afety of products, road safety</a:t>
            </a:r>
            <a:endParaRPr b="0" lang="en-US" sz="20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griculture and Food</a:t>
            </a:r>
            <a:endParaRPr b="0" lang="en-US" sz="20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ealth,</a:t>
            </a:r>
            <a:endParaRPr b="0" lang="en-US" sz="20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vironment,</a:t>
            </a:r>
            <a:endParaRPr b="0" lang="en-US" sz="20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conomy and finance,</a:t>
            </a:r>
            <a:endParaRPr b="0" lang="en-US" sz="20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eliminary concertation</a:t>
            </a:r>
            <a:endParaRPr b="1" lang="en-US" sz="2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ll these Departments should be convinced that:</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uch a law will benefit to their missions,</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y will not lose any power,</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law will improve the efficiency of the economy and facilitate their work,</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organization set up by the law will not add unacceptable costs to the State budget,</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costs for stakeholders (industry, agriculture, consumers, etc.) will not be unaccep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eliminary concertation</a:t>
            </a:r>
            <a:endParaRPr b="1" lang="en-US" sz="2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or this, an </a:t>
            </a:r>
            <a:r>
              <a:rPr b="1" lang="fr-FR" sz="2400" spc="-1" strike="noStrike">
                <a:solidFill>
                  <a:srgbClr val="000000"/>
                </a:solidFill>
                <a:latin typeface="Arial"/>
              </a:rPr>
              <a:t>interministerial Seminar on Metrology</a:t>
            </a:r>
            <a:r>
              <a:rPr b="0" lang="fr-FR" sz="2400" spc="-1" strike="noStrike">
                <a:solidFill>
                  <a:srgbClr val="000000"/>
                </a:solidFill>
                <a:latin typeface="Arial"/>
              </a:rPr>
              <a:t>, addressed to the appropriate technical services of the different ministries, could be useful:</a:t>
            </a:r>
            <a:endParaRPr b="0" lang="en-US" sz="2400" spc="-1" strike="noStrike">
              <a:solidFill>
                <a:srgbClr val="000000"/>
              </a:solidFill>
              <a:latin typeface="Arial"/>
            </a:endParaRPr>
          </a:p>
          <a:p>
            <a:pPr lvl="1" marL="727920" indent="-37152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esenting the stakes of metrology,</a:t>
            </a:r>
            <a:endParaRPr b="0" lang="en-US" sz="2400" spc="-1" strike="noStrike">
              <a:solidFill>
                <a:srgbClr val="000000"/>
              </a:solidFill>
              <a:latin typeface="Arial"/>
            </a:endParaRPr>
          </a:p>
          <a:p>
            <a:pPr lvl="1" marL="727920" indent="-37152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howing the weaknesses of the present situation,</a:t>
            </a:r>
            <a:endParaRPr b="0" lang="en-US" sz="2400" spc="-1" strike="noStrike">
              <a:solidFill>
                <a:srgbClr val="000000"/>
              </a:solidFill>
              <a:latin typeface="Arial"/>
            </a:endParaRPr>
          </a:p>
          <a:p>
            <a:pPr lvl="1" marL="727920" indent="-37152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howing examples from other countries,</a:t>
            </a:r>
            <a:endParaRPr b="0" lang="en-US" sz="2400" spc="-1" strike="noStrike">
              <a:solidFill>
                <a:srgbClr val="000000"/>
              </a:solidFill>
              <a:latin typeface="Arial"/>
            </a:endParaRPr>
          </a:p>
          <a:p>
            <a:pPr lvl="1" marL="727920" indent="-37152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esenting the work of the Regional and International Organizations in the field of Metrology.</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uch a concertation should be approved and encouraged at the level of the Gover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eliminary concertation</a:t>
            </a:r>
            <a:endParaRPr b="1" lang="en-US" sz="2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decision to draw up a new Law should result from this concertation and should be approved at Governmental level (typically by a decision of the Council of Ministers).</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intended scope of the law to prepare will result from this concertation and should be agreed by the concerned Departments.</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elements of D 1 which will be used result from this concertation and from legal aspects described fur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eliminary concertation</a:t>
            </a:r>
            <a:endParaRPr b="1" lang="en-US" sz="2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f course an autoritary decision of the Head of the State, of the Parliament or of a Commission of the Parliament may be taken without such a concertation,</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ut in this case a lack of cooperation of different ministries would be probable and this would compromise the success of the La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0T05:23:21Z</dcterms:created>
  <dc:creator>Magana</dc:creator>
  <dc:description/>
  <dc:language>en-US</dc:language>
  <cp:lastModifiedBy>Magana</cp:lastModifiedBy>
  <dcterms:modified xsi:type="dcterms:W3CDTF">2007-10-20T08:10:09Z</dcterms:modified>
  <cp:revision>12</cp:revision>
  <dc:subject/>
  <dc:title>Diapositive 1</dc:title>
</cp:coreProperties>
</file>