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873C5-47A2-4B2A-B009-CCDEBF0B4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ECFF0-1D6C-418D-9884-E83586E7E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56E33-B8DF-4C23-AC38-5763A6E47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E020D-D392-42AC-858B-DD74CCFAB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BD6A9-68BA-4EA0-9BFF-E63BA4092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7FF45-2335-430A-98CA-A0C3F44FF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10A29-EA5E-420E-9170-583122D2C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0BB4C-C641-4170-A583-EDED4C213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8A18E-C4B8-49F2-830E-4EBDC4871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909C5-672B-4E6C-A465-0D33F5772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2A8A5-CD44-46ED-9FB8-F78E5F496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1E547-D121-4673-8B8F-CF73096C5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02ECE-A0BB-4E3C-9748-0B3932EF9A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341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Issues of metrology legislation in Democratic Republic of Cong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3573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Kanama Viki Mbuya</a:t>
            </a:r>
            <a:br>
              <a:rPr sz="2800"/>
            </a:br>
            <a:br>
              <a:rPr sz="2800"/>
            </a:b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Director of Metrology &amp; Standard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DR Con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2006 verific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s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alances &amp; weighing instruments: 166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eighbridges: 6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Volum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iquid fuel dispensers: 127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oad tankers and fixed tanks: 2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thers: 20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dustrial &amp; scientific metr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ields of activ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ss measur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olume measur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ength measur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ce measur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ss section in process of accreditation to be completed by end 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Volume, length and force sections not yet sufficiently equipp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raceability to South African National Measurement Laboratory (NMISA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Development prosp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dustry has pressing need to be competitive in market for high quality go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eed for calibration of measuring equipment used in manufacturing which has effect on product qu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eed exists particularly in the fields of pressure, temperature, electrical measurements and dimensional metr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refore need to acquire reference and working standards in these doma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Issues in metrology legislation and regulation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(1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etrology in DRC suffers from fundamental legal problem fixing main objectives of the organis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lonial 1901 Law (updated 1959) still in 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nsidered unsuitable for the way in which metrology has develop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Issues in metrology legislation and regulation (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 get around difficulties, metrological tasks currently divid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trology Directorate of Ministry of Industry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dministrative monitoring (market surveillance) of verifications conducted by Congolese Office of Con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golese Office of Control: verification of measuring instruments used for trade (legal metrology) as well as verification/calibration of measuring instruments used in indus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golese Office of Control uses OIML Recommendations as normative references for its work, even though not implemented in national technical legis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IML D 1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Elements for a law on metrology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wil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llow better organisation and better structure its objectives and metrological ski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id smooth development during critical stage in reconstr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basic metrology law is an important tool in the regulation of metrological activities in a country.  This law takes metrological standards, adapts them to the economic situation of the country and places them in the national administrative struct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Overview of DR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ituated in Central Afr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rea: 2 345 000 km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opulation: 60 000 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fficial language: Fren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atural resources: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old, copper, diamonds, cobalt, natural gas and oil, water, uranium, coffee, rubber, cotton, fish, minerals, timbe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jor industries: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ining, oil (extraction and refining), agriculture and food processing (margarine, soap, brewing), sawmills, steel foundri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ongolese Office of Contr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ublic body, created in 197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iss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trol of the quality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quantity and conformity of all products and merchandis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alysis of all products and sample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echnical control of all instruments and wor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vers all conformity assessment: inspection, certification of products and personnel, testing and calibration in metrolog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ongolese Office of Contr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Vis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 be a leading organisation, recognised internationally for supporting efforts in economic development, industrial and social progress in Democratic Republic of Cong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ctiviti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mport and export inspectio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duct certification (including systems and personnel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esting (chemistry, microbiology, materials and electrotechnology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etrology (legal and industrial/scientifi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Development and organisation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of metrolog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etrology since colonial ti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etric system since 19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I used since 195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1978 UNDP programme f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tandardis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etr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Developments in metrology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ebruary 1980: lack of accommodation, qualified personnel, equipment, verification no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pril 1980: UNDP expert’s report proposed transfer of metrology activities to Congolese Office of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y 1980, agreement given for transfer of metrology activities to the Congolese Office of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January 1982: collaboration framework between Ministry of National Economy and Industry and the Congolese Office of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CC responsible for technical aspects of metrology (verification of accurac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trology Directorate of the Ministry responsible for administrative surveill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Developments in metrolog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June 1995: collaboration framework strengthened by declaration signed by the two par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996: relations established between Congolese Office of Control and the South African National Metrology Laboratory for traceability to international stand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002: metrology laboratory established within Congolese Office of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y 2003: technical cooperation agreement signed between Congolese Office of Control and South African NML/CS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005: metrology laboratory mass section began preparations for accredi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egal metr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easuring instruments verified when used for trade in mass or volu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epackaged products soon to be inclu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25 technical metrology inspec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asic training to technician level in electromechanical, electronics or mathematics according to OIML D 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ver whole of D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3T06:12:40Z</dcterms:created>
  <dc:creator> </dc:creator>
  <dc:description/>
  <dc:language>en-US</dc:language>
  <cp:lastModifiedBy> </cp:lastModifiedBy>
  <dcterms:modified xsi:type="dcterms:W3CDTF">2007-10-23T07:45:37Z</dcterms:modified>
  <cp:revision>2</cp:revision>
  <dc:subject/>
  <dc:title>Issues of metrology legislation in Democratic Republic of Congo</dc:title>
</cp:coreProperties>
</file>